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click.wav" ContentType="audio/x-wav"/>
  <Override PartName="/ppt/media/image15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5AA-38C3-464D-AABE-A18D0B73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4AE-7090-4BC1-B2D2-51D4AC3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D68-DA0D-44EC-8994-F7774DD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69D-4EDB-4E95-943A-68AEEBC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E93-A3F0-4BD0-B7BA-A604371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202-5178-48BF-A33C-15A03880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9A6-8C7D-4264-A58D-3E332172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EE7-E844-4D04-B197-FC0BF2C7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678-5E68-4F5C-802F-5EF60C8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085-5AC1-4C0D-A9D5-AE21443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1F5-6C77-4679-B8F8-CDC8ACE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DBE-2572-481D-B9A1-C91954F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5522-737E-474A-B9C6-F5882810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 Animals And Natural Disa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I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ky 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ky pine rolls up into a spiky ball when confronted with a predator for self def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181476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81296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29 -0.07122 C 0.05017 -0.14798 0.01823 -0.22451 -0.00521 -0.25526 C -0.0283 -0.28601 -0.01858 -0.32139 -0.05747 -0.25526 C -0.09636 -0.18913 -0.32865 0.02358 -0.23837 0.14219 C -0.14809 0.26058 0.36302 0.40462 0.48385 0.45688 E">
                                      <p:cBhvr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0.06428 C 0.0974 0.02196 0.09236 0.04046 0.10035 0.00925 C 0.10191 0.003 0.10226 -0.00416 0.10504 -0.00971 C 0.10816 -0.01619 0.11268 -0.02174 0.11459 -0.0289 C 0.12656 -0.07607 0.13889 -0.12185 0.16545 -0.15769 C 0.17066 -0.16463 0.1691 -0.16301 0.175 -0.1748 C 0.17622 -0.17734 0.17952 -0.17688 0.18125 -0.17896 C 0.20122 -0.20116 0.18525 -0.19214 0.20347 -0.2 C 0.21268 -0.21226 0.21945 -0.20925 0.23351 -0.21064 C 0.25104 -0.21827 0.2684 -0.21318 0.28438 -0.20208 C 0.28542 -0.19931 0.28559 -0.19561 0.28768 -0.19376 C 0.30573 -0.17434 0.29479 -0.19653 0.31111 -0.1748 C 0.31389 -0.17133 0.31945 -0.16416 0.31945 -0.16393 C 0.32292 -0.15445 0.32292 -0.14474 0.32552 -0.13457 C 0.32448 -0.12046 0.32361 -0.10636 0.32257 -0.09226 C 0.32084 -0.07445 0.31875 -0.07885 0.31285 -0.06682 C 0.30972 -0.06012 0.30834 -0.0548 0.30347 -0.04994 C 0.29011 -0.037 0.2974 -0.04671 0.2908 -0.03723 C 0.28959 -0.01503 0.28403 0.0104 0.29393 0.03029 C 0.29462 0.05896 0.29063 0.07214 0.30035 0.09156 C 0.30156 0.10335 0.29965 0.10913 0.30816 0.11283 C 0.31597 0.123 0.32448 0.12948 0.33525 0.13179 C 0.34115 0.13549 0.34653 0.1378 0.35261 0.14035 C 0.43038 0.13826 0.4092 0.14497 0.44931 0.13179 C 0.45643 0.123 0.44827 0.13179 0.46059 0.12555 C 0.4625 0.12462 0.46354 0.12208 0.46545 0.12115 C 0.49896 0.10474 0.4566 0.1311 0.4908 0.10867 C 0.49254 0.10751 0.49393 0.10543 0.49566 0.10428 C 0.49861 0.10243 0.50504 0.10011 0.50504 0.10035 C 0.50764 0.09665 0.51042 0.09295 0.51302 0.08948 C 0.51511 0.0867 0.51945 0.08115 0.51945 0.08139 C 0.52292 0.06705 0.51823 0.08254 0.529 0.06428 C 0.53038 0.06173 0.5309 0.0585 0.53212 0.05572 C 0.53611 0.04693 0.54288 0.03792 0.54792 0.03029 C 0.5507 0.02589 0.55538 0.02289 0.55747 0.01757 C 0.56129 0.0074 0.55886 0.01133 0.56389 0.00509 C 0.57084 -0.01387 0.56667 -0.00763 0.57344 -0.01619 C 0.57448 -0.01896 0.57535 -0.02197 0.57656 -0.02451 C 0.57743 -0.02613 0.57917 -0.02705 0.57969 -0.0289 C 0.58733 -0.05318 0.57552 -0.02821 0.58455 -0.04578 C 0.58594 -0.05156 0.58802 -0.05688 0.58924 -0.06266 C 0.59184 -0.07561 0.5915 -0.09064 0.59879 -0.10081 C 0.59913 -0.11353 0.59913 -0.12624 0.60035 -0.13873 C 0.60035 -0.14312 0.60243 -0.14728 0.60347 -0.15145 C 0.604 -0.15353 0.60504 -0.15769 0.60504 -0.15746 C 0.60625 -0.17364 0.60608 -0.18775 0.61146 -0.20208 C 0.61198 -0.20694 0.61198 -0.21202 0.61302 -0.21688 C 0.61372 -0.22127 0.61563 -0.2252 0.61615 -0.2296 C 0.62136 -0.26844 0.61511 -0.24185 0.61945 -0.25919 C 0.61875 -0.29596 0.62587 -0.31977 0.61302 -0.3459 C 0.61285 -0.34659 0.61059 -0.35908 0.6099 -0.3607 C 0.60712 -0.36532 0.60035 -0.37341 0.60035 -0.37318 C 0.59653 -0.38913 0.60018 -0.38428 0.5908 -0.39029 C 0.59028 -0.39237 0.59028 -0.39491 0.58924 -0.39676 C 0.58698 -0.4007 0.58125 -0.40717 0.58125 -0.40694 C 0.58073 -0.40925 0.58073 -0.41179 0.57969 -0.41364 C 0.57743 -0.41757 0.5717 -0.42405 0.5717 -0.42382 C 0.57118 -0.42682 0.57118 -0.43006 0.57014 -0.4326 C 0.5691 -0.43468 0.56684 -0.43515 0.56545 -0.43676 C 0.56476 -0.43723 0.55972 -0.44509 0.55903 -0.44532 C 0.5533 -0.44694 0.5474 -0.44671 0.54167 -0.4474 C 0.53038 -0.45226 0.54445 -0.44671 0.5257 -0.45156 C 0.51389 -0.4548 0.49757 -0.46127 0.48611 -0.46636 C 0.38108 -0.46474 0.3875 -0.46798 0.32709 -0.46012 C 0.31736 -0.45572 0.30886 -0.45318 0.29844 -0.45156 C 0.28802 -0.44694 0.27656 -0.44486 0.26528 -0.44324 C 0.254 -0.43838 0.24063 -0.43653 0.229 -0.43468 C 0.22709 -0.4333 0.22587 -0.43145 0.22396 -0.43052 C 0.22066 -0.42867 0.21424 -0.42636 0.21424 -0.42613 C 0.20729 -0.41619 0.21615 -0.42728 0.20677 -0.41989 C 0.20382 -0.41757 0.20156 -0.41411 0.19879 -0.41156 C 0.1566 -0.41318 0.1165 -0.41734 0.075 -0.42405 C 0.05573 -0.43098 0.03594 -0.43145 0.01615 -0.43468 C 0.00243 -0.44093 -0.01111 -0.44231 -0.025 -0.4474 C -0.03941 -0.45272 -0.05139 -0.45965 -0.06632 -0.4622 C -0.07153 -0.46451 -0.07691 -0.46613 -0.08212 -0.46844 C -0.0901 -0.47885 -0.07934 -0.46613 -0.09496 -0.47491 C -0.12031 -0.48879 -0.08923 -0.47954 -0.11389 -0.48555 C -0.12048 -0.49387 -0.12778 -0.49434 -0.13611 -0.49804 C -0.14323 -0.50752 -0.15451 -0.51145 -0.16319 -0.51931 C -0.16805 -0.53202 -0.16996 -0.52948 -0.18055 -0.53411 C -0.1868 -0.54197 -0.18212 -0.54382 -0.1901 -0.55098 C -0.19913 -0.57572 -0.1835 -0.58821 -0.16788 -0.5933 C -0.16111 -0.59214 -0.15694 -0.59445 -0.15364 -0.58682 C -0.15278 -0.58497 -0.1533 -0.5822 -0.15208 -0.58058 C -0.14705 -0.57411 -0.13646 -0.57226 -0.12986 -0.56786 C -0.12934 -0.56578 -0.12951 -0.56324 -0.1283 -0.56162 C -0.12708 -0.56 -0.12482 -0.5607 -0.12344 -0.55954 C -0.1125 -0.55075 -0.12934 -0.55908 -0.11545 -0.55307 C -0.11354 -0.54567 -0.10989 -0.54312 -0.10764 -0.53619 C -0.1 -0.51376 -0.10833 -0.53133 -0.10121 -0.51723 C -0.10052 -0.49919 -0.10312 -0.4689 -0.09166 -0.45364 C -0.0908 -0.44948 -0.08958 -0.44532 -0.08854 -0.44116 C -0.08819 -0.43908 -0.0875 -0.43676 -0.08698 -0.43468 C -0.08663 -0.4326 -0.08541 -0.42844 -0.08541 -0.42821 C -0.08698 -0.40301 -0.08819 -0.37249 -0.0901 -0.34798 C -0.0908 -0.34266 -0.09357 -0.33827 -0.09496 -0.33318 C -0.09583 -0.28555 -0.08906 -0.2185 -0.10764 -0.17041 C -0.11302 -0.14174 -0.11128 -0.15145 -0.11875 -0.13249 C -0.11927 -0.12532 -0.1191 -0.11815 -0.12031 -0.11122 C -0.12066 -0.10867 -0.12257 -0.10728 -0.12344 -0.10497 C -0.12639 -0.09711 -0.125 -0.09018 -0.12986 -0.0837 C -0.13281 -0.07168 -0.13264 -0.0548 -0.13767 -0.0437 C -0.14462 -0.02844 -0.13715 -0.05434 -0.1441 -0.03098 C -0.14896 -0.0148 -0.14427 -0.02197 -0.15052 -0.01411 C -0.15225 0.00046 -0.15364 0.00717 -0.16163 0.01757 C -0.16545 0.03306 -0.16007 0.01433 -0.16788 0.03029 C -0.16875 0.03214 -0.1684 0.03491 -0.16944 0.03676 C -0.1717 0.04069 -0.17482 0.0437 -0.17743 0.04717 C -0.17847 0.04855 -0.18055 0.05156 -0.18055 0.05179 C -0.18403 0.06566 -0.18142 0.07468 -0.18854 0.0874 C -0.1908 0.10335 -0.19427 0.12023 -0.18854 0.13595 C -0.18264 0.15191 -0.17274 0.14058 -0.17274 0.15514 E">
                                      <p:cBhvr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n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s are formations of wind that are so powerful that they pick up dirt and other things that’s why we can see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91520" y="1828800"/>
            <a:ext cx="1166760" cy="174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2133360" cy="170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9144000" y="129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00600" y="4495680"/>
            <a:ext cx="182556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21387E-006 C -0.00364 -0.00069 -0.00763 -0.00023 -0.01111 -0.00208 C -0.01319 -0.00323 -0.01388 -0.0067 -0.01562 -0.00832 C -0.02691 -0.01896 -0.01736 -0.00485 -0.03003 -0.01896 C -0.03385 -0.02335 -0.03715 -0.02936 -0.04114 -0.03375 C -0.05625 -0.0504 -0.03819 -0.02381 -0.05382 -0.04439 C -0.05607 -0.04763 -0.05763 -0.05179 -0.06007 -0.05479 C -0.06632 -0.06173 -0.075 -0.06057 -0.08229 -0.06335 C -0.09774 -0.06936 -0.11145 -0.08138 -0.12673 -0.08647 C -0.13524 -0.09433 -0.16718 -0.10844 -0.16961 -0.10982 C -0.17413 -0.11237 -0.18229 -0.11838 -0.18229 -0.11838 C -0.18836 -0.11768 -0.19427 -0.11768 -0.2 -0.11607 C -0.21354 -0.11214 -0.19444 -0.11029 -0.21111 -0.10982 C -0.24965 -0.10844 -0.28836 -0.10844 -0.32673 -0.10774 C -0.33958 -0.10196 -0.32291 -0.11075 -0.33489 -0.09919 C -0.34288 -0.09133 -0.35538 -0.08878 -0.36493 -0.08647 C -0.37031 -0.07977 -0.37691 -0.07907 -0.38385 -0.07607 C -0.39496 -0.06589 -0.38194 -0.07676 -0.40451 -0.06751 C -0.40954 -0.06566 -0.41302 -0.05803 -0.41718 -0.05479 C -0.42552 -0.04878 -0.4342 -0.04346 -0.4427 -0.03792 C -0.45503 -0.02982 -0.44513 -0.03699 -0.46336 -0.02104 C -0.46493 -0.01965 -0.46805 -0.01688 -0.46805 -0.01688 C -0.47187 -0.00138 -0.46666 -0.02011 -0.47448 -0.00416 C -0.48194 0.0111 -0.46996 -0.00555 -0.47916 0.00648 C -0.48368 0.02405 -0.47586 -0.00416 -0.49027 0.02544 C -0.49757 0.03977 -0.49392 0.03469 -0.5 0.04232 C -0.50312 0.0548 -0.50694 0.07399 -0.5125 0.08463 C -0.51388 0.09804 -0.51579 0.10983 -0.51892 0.12278 C -0.51823 0.13758 -0.51857 0.15237 -0.51718 0.16717 C -0.51701 0.17156 -0.51475 0.17549 -0.51423 0.17989 C -0.51041 0.21133 -0.51527 0.23353 -0.48888 0.24532 C -0.48472 0.24925 -0.47934 0.2511 -0.47604 0.25596 C -0.47343 0.25966 -0.47274 0.2659 -0.46979 0.26867 C -0.46441 0.2733 -0.4552 0.27931 -0.45052 0.28555 C -0.44861 0.28833 -0.44687 0.2918 -0.44444 0.29388 C -0.44132 0.29619 -0.43802 0.29688 -0.43489 0.29827 C -0.42691 0.31815 -0.43802 0.2948 -0.42222 0.31075 C -0.42031 0.3126 -0.42083 0.31746 -0.41892 0.31931 C -0.41597 0.32208 -0.40538 0.32463 -0.40156 0.32555 C -0.40052 0.32694 -0.39895 0.3281 -0.39826 0.32995 C -0.39722 0.3318 -0.39809 0.33503 -0.3967 0.33619 C -0.39079 0.34058 -0.37187 0.34197 -0.36666 0.34266 C -0.36545 0.34405 -0.36475 0.3459 -0.36336 0.34682 C -0.3618 0.34798 -0.35989 0.34729 -0.3585 0.34891 C -0.35746 0.35052 -0.35798 0.3533 -0.35711 0.35515 C -0.35382 0.36162 -0.34722 0.36578 -0.3427 0.36995 C -0.34079 0.3718 -0.33819 0.37226 -0.33628 0.37434 C -0.33298 0.37804 -0.32673 0.38706 -0.32673 0.38706 C -0.3243 0.40301 -0.32083 0.41619 -0.31718 0.43145 C -0.3184 0.46382 -0.31562 0.4874 -0.33333 0.5096 C -0.33507 0.51422 -0.33767 0.51769 -0.33958 0.52232 C -0.34479 0.53665 -0.34079 0.53989 -0.35225 0.54752 C -0.35746 0.56093 -0.36545 0.56532 -0.37448 0.57295 C -0.37847 0.57642 -0.37691 0.57758 -0.38073 0.58151 C -0.38385 0.58451 -0.38767 0.58613 -0.39045 0.58983 C -0.39132 0.59122 -0.39218 0.5933 -0.3934 0.59422 C -0.39652 0.5963 -0.40295 0.59838 -0.40295 0.59838 C -0.41597 0.61573 -0.40954 0.60856 -0.42517 0.61526 C -0.48194 0.61318 -0.53836 0.61156 -0.59496 0.60902 C -0.60833 0.60833 -0.63333 0.5963 -0.63333 0.5963 C -0.64375 0.5822 -0.65069 0.57896 -0.66319 0.56671 C -0.66441 0.56555 -0.6651 0.56324 -0.66666 0.56232 C -0.68402 0.55168 -0.68836 0.55422 -0.70312 0.53503 C -0.71145 0.51099 -0.71857 0.48717 -0.72691 0.46312 C -0.72934 0.44255 -0.72708 0.45434 -0.73645 0.42914 C -0.73888 0.42289 -0.74166 0.40532 -0.74253 0.39954 C -0.73802 0.24047 -0.74618 0.33596 -0.73645 0.277 C -0.73263 0.25341 -0.73385 0.23654 -0.71579 0.22844 C -0.71302 0.21688 -0.7092 0.22128 -0.70138 0.21781 C -0.68993 0.21919 -0.67795 0.2185 -0.66666 0.22197 C -0.65191 0.22659 -0.63819 0.24301 -0.62361 0.24948 C -0.61632 0.27954 -0.6243 0.31214 -0.61875 0.34266 C -0.61944 0.35469 -0.61857 0.36671 -0.62048 0.3785 C -0.62135 0.38359 -0.62552 0.38636 -0.62691 0.39122 C -0.62829 0.39769 -0.62899 0.40648 -0.63159 0.41226 C -0.63698 0.42405 -0.64444 0.43515 -0.65052 0.44625 C -0.65573 0.45549 -0.65781 0.46521 -0.66493 0.47145 C -0.67361 0.46775 -0.67899 0.45295 -0.68559 0.44393 C -0.6875 0.43099 -0.68941 0.41711 -0.69496 0.40602 C -0.69757 0.3896 -0.69861 0.38035 -0.7 0.36162 C -0.70138 0.3644 -0.70277 0.36763 -0.70468 0.36995 C -0.7059 0.37133 -0.70798 0.37064 -0.70937 0.37226 C -0.71059 0.37388 -0.71041 0.37642 -0.71111 0.3785 C -0.71302 0.38428 -0.71527 0.38983 -0.71718 0.39538 C -0.71875 0.39908 -0.72187 0.4007 -0.72361 0.40393 C -0.72517 0.40648 -0.72586 0.40948 -0.72691 0.41226 C -0.72638 0.41873 -0.72777 0.4518 -0.71718 0.45873 C -0.71267 0.46174 -0.70781 0.46312 -0.70312 0.46521 C -0.68194 0.48509 -0.66232 0.50567 -0.64097 0.5244 C -0.63524 0.52971 -0.63055 0.53827 -0.62361 0.54128 C -0.60677 0.54867 -0.60191 0.54775 -0.58385 0.54983 C -0.57743 0.5526 -0.56423 0.55885 -0.55868 0.55815 C -0.55295 0.55746 -0.54809 0.5526 -0.5427 0.54983 C -0.5375 0.54266 -0.5302 0.54151 -0.52361 0.53711 C -0.51875 0.52417 -0.51076 0.51307 -0.50468 0.50104 C -0.50225 0.49688 -0.49826 0.48833 -0.49826 0.48833 C -0.48836 0.44856 -0.48003 0.41203 -0.47604 0.36995 C -0.47708 0.3644 -0.47621 0.35723 -0.47916 0.35307 C -0.49079 0.33781 -0.5217 0.3318 -0.53645 0.32995 C -0.57968 0.31492 -0.6052 0.31838 -0.6585 0.31723 C -0.67534 0.3096 -0.66788 0.31214 -0.68073 0.30867 C -0.68958 0.30081 -0.70034 0.29919 -0.70937 0.2918 C -0.72257 0.28093 -0.73489 0.26844 -0.75069 0.26428 C -0.75277 0.25573 -0.75086 0.26012 -0.75555 0.25388 C -0.75868 0.24971 -0.76475 0.24116 -0.76475 0.24116 C -0.76614 0.22497 -0.76753 0.20578 -0.77118 0.19029 C -0.76979 0.16625 -0.77118 0.1281 -0.76007 0.1059 C -0.75642 0.08625 -0.75121 0.06544 -0.74253 0.04879 C -0.74375 0.03469 -0.74288 0.02012 -0.74583 0.00648 C -0.74739 0.0007 -0.75225 -0.00208 -0.75555 -0.00624 C -0.77951 -0.03861 -0.74392 0.00671 -0.78871 -0.03792 C -0.79427 -0.04323 -0.79791 -0.05109 -0.80312 -0.05688 C -0.81753 -0.07306 -0.83507 -0.0867 -0.85069 -0.10127 C -0.8618 -0.11167 -0.8743 -0.12046 -0.88402 -0.13318 C -0.89079 -0.14219 -0.90451 -0.16046 -0.90451 -0.16046 C -0.93246 -0.1482 -0.95104 -0.1126 -0.96823 -0.08231 C -0.97257 -0.07468 -0.97343 -0.06451 -0.9776 -0.05688 C -0.98246 -0.04855 -0.98715 -0.04 -0.99201 -0.03167 C -0.99548 -0.02543 -1.00156 -0.01248 -1.00156 -0.01248 C -1.00937 0.01989 -1.00902 0.02197 -1.02517 0.05087 C -1.02691 0.0622 -1.02968 0.06428 -1.03142 0.07399 C -1.0342 0.08971 -1.03055 0.08301 -1.03628 0.0911 C -1.03732 0.09526 -1.03836 0.09943 -1.03941 0.10359 C -1.03993 0.10567 -1.04097 0.11006 -1.04097 0.11006 C -1.03975 0.11977 -1.03836 0.13457 -1.03628 0.14382 C -1.03194 0.16208 -1.02031 0.17873 -1.0125 0.19469 C -0.99479 0.23122 -0.98246 0.27515 -0.96979 0.31515 C -0.96354 0.33457 -0.95034 0.34867 -0.94097 0.36578 C -0.93038 0.38497 -0.91927 0.41388 -0.90781 0.42914 C -0.89982 0.43977 -0.88402 0.46104 -0.88402 0.46104 C -0.87795 0.48578 -0.88281 0.47538 -0.86979 0.49272 C -0.86753 0.49549 -0.8618 0.51006 -0.86007 0.51376 C -0.85763 0.52023 -0.85295 0.52393 -0.85069 0.53064 C -0.84809 0.53758 -0.84652 0.54474 -0.84427 0.55191 C -0.84392 0.55607 -0.84288 0.57804 -0.84097 0.58567 C -0.83732 0.60047 -0.83402 0.61226 -0.83142 0.62798 C -0.83038 0.6437 -0.83125 0.64995 -0.82534 0.66174 C -0.8217 0.67561 -0.81649 0.68648 -0.8125 0.69989 C -0.81093 0.70613 -0.81059 0.7133 -0.80781 0.71885 C -0.8026 0.72856 -0.79513 0.73573 -0.78871 0.74428 C -0.78698 0.74659 -0.78732 0.75075 -0.78559 0.7526 C -0.78177 0.75654 -0.77708 0.75838 -0.77291 0.76116 C -0.76198 0.76856 -0.74861 0.76255 -0.73645 0.76324 C -0.73073 0.76578 -0.72448 0.76694 -0.71892 0.76948 C -0.71302 0.77781 -0.70468 0.77457 -0.6967 0.77804 C -0.69027 0.79538 -0.69774 0.77919 -0.68715 0.79075 C -0.6835 0.79445 -0.68073 0.79931 -0.67777 0.80347 C -0.67552 0.80625 -0.67239 0.80602 -0.66961 0.80763 C -0.65798 0.81526 -0.66718 0.81503 -0.65052 0.81827 C -0.64184 0.82613 -0.63385 0.82914 -0.62361 0.83307 C -0.62048 0.83422 -0.61423 0.83723 -0.61423 0.83723 L 0.16667 0.82659 L -0.65382 0.83307 E">
                                      <p:cBhvr>
                                        <p:cTn id="36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ta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tahs are amazingly fast they can run up to 75 miles an hour to catch pr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very strong jaws to carry their prey up trees or to their 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320" y="1371600"/>
            <a:ext cx="403884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64320" y="4343400"/>
            <a:ext cx="1579680" cy="151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2427120" cy="159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81680" y="152280"/>
            <a:ext cx="213372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6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ike tornados except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uch stronger and bigger and they pick up water and can cause fl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402588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s the polar bear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thick layer of fu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warm. The polar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n swim very well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2920" y="487692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48720" y="3048120"/>
            <a:ext cx="10922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2819520"/>
            <a:ext cx="1319040" cy="197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15200" y="1676520"/>
            <a:ext cx="1828800" cy="120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981080" cy="130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791320" y="1752480"/>
            <a:ext cx="1523880" cy="1019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248520" y="380880"/>
            <a:ext cx="86184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086600" y="5834160"/>
            <a:ext cx="16765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9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15400" y="66294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7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10Z</dcterms:modified>
  <cp:revision>8</cp:revision>
  <dc:subject/>
  <dc:title>Wild Animals</dc:title>
</cp:coreProperties>
</file>